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7B5-4DAA-4C60-B0F9-786C4DF5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068-19EE-436A-A73B-DCB7CBCD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1BD-E5DB-43EE-9B7D-5F05FF89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378-76DB-430B-B602-0E1D948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EC5-C542-4C8F-845B-ED141A7C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18A1-615E-478D-8612-E1D3268C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52C4-159E-4729-906C-D2736731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AB6-8AD7-48BE-8587-F3B5BB7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610-0F28-40CF-90D8-34CFB1F2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A52C-2209-413E-92E0-1BFC926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D03A-E3FC-4416-A7DA-D46F947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B6A-89B5-4BEB-B118-3C2D8F1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BA6E-8EE9-48F1-A2CA-71A4A4A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66C4-4CC0-4FE8-8539-A7565FE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DDD3-C5B3-4D6D-9B8B-E3DFDA11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6920-B7D1-4DA0-B2DF-CFDF0DE1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8E9-4991-4170-9296-764EF4A6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F5E-744F-4E89-9939-324CC3C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B77-4C08-4E3D-9263-61EFC1C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3DA-BEEF-4480-9EB0-9E30B45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C0F-3CB2-4D01-9838-1F73C526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4F6-055D-4B04-A99A-12EB5488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345-1CA6-4719-BBA6-3E05F66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62B-0C55-462B-B371-93944B1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B4F-0A93-456D-B895-87FD78C54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9C26-CD3A-4177-A768-53F18B8AF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8;&#1082;&#1086;&#1090;&#1080;&#1082;&#1080;" TargetMode="External"/><Relationship Id="rId2" Type="http://schemas.openxmlformats.org/officeDocument/2006/relationships/hyperlink" Target="http://ru.wikipedia.org/wiki/&#1040;&#1083;&#1082;&#1086;&#1075;&#1086;&#1083;&#1100;&#1085;&#1099;&#1077;_&#1085;&#1072;&#1087;&#1080;&#1090;&#1082;&#1080;" TargetMode="External"/><Relationship Id="rId3" Type="http://schemas.openxmlformats.org/officeDocument/2006/relationships/hyperlink" Target="http://ru.wikipedia.org/wiki/&#1057;&#1080;&#1085;&#1076;&#1088;&#1086;&#1084;_&#1087;&#1089;&#1080;&#1093;&#1080;&#1095;&#1077;&#1089;&#1082;&#1086;&#1081;_&#1079;&#1072;&#1074;&#1080;&#1089;&#1080;&#1084;&#1086;&#1089;&#1090;&#108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85680" y="1785600"/>
            <a:ext cx="61722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редные привычки. Употребление алкоголя и его влияние на здоровье человек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0019"/>
          <p:cNvPicPr/>
          <p:nvPr/>
        </p:nvPicPr>
        <p:blipFill>
          <a:blip r:embed="rId1"/>
          <a:stretch/>
        </p:blipFill>
        <p:spPr>
          <a:xfrm>
            <a:off x="122400" y="-23760"/>
            <a:ext cx="29494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2960" y="500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анным специалистов, употребление спиртных напитков лицами моложе 20 лет примерно в 76% случаев приводит к алкогол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4" descr="20081028151940.jpg"/>
          <p:cNvPicPr/>
          <p:nvPr/>
        </p:nvPicPr>
        <p:blipFill>
          <a:blip r:embed="rId1"/>
          <a:stretch/>
        </p:blipFill>
        <p:spPr>
          <a:xfrm>
            <a:off x="285840" y="1357200"/>
            <a:ext cx="3375000" cy="354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230279"/>
          <p:cNvPicPr/>
          <p:nvPr/>
        </p:nvPicPr>
        <p:blipFill>
          <a:blip r:embed="rId2"/>
          <a:stretch/>
        </p:blipFill>
        <p:spPr>
          <a:xfrm>
            <a:off x="4214880" y="29289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71680" y="14292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ый, злейший порок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, душу и 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щадишь, а жестоко калечишь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я с седой стар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идёшь, собирая ужасную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их ты искалеч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вращая в пропойную рва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ял молодость,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вёл за собой от люби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 жизни прош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мо радости, счастья м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ты загуб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тцов, и детей, и талант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ёт, а доро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ка в пьяных руках музык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уби род люд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х пожалей, не тра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орочную 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обою их всех не з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ь, с дороги уй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полню стакан твоим я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жизнь впер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е лишних проблем в ней не на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7" descr="alkogolizm.jpg"/>
          <p:cNvPicPr/>
          <p:nvPr/>
        </p:nvPicPr>
        <p:blipFill>
          <a:blip r:embed="rId1"/>
          <a:stretch/>
        </p:blipFill>
        <p:spPr>
          <a:xfrm>
            <a:off x="4643280" y="2357280"/>
            <a:ext cx="4292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0147_Preview.jpg"/>
          <p:cNvPicPr/>
          <p:nvPr/>
        </p:nvPicPr>
        <p:blipFill>
          <a:blip r:embed="rId1"/>
          <a:stretch/>
        </p:blipFill>
        <p:spPr>
          <a:xfrm>
            <a:off x="714240" y="2357280"/>
            <a:ext cx="8048880" cy="4024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57160" y="71424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умайся!       Выбор за тоб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photo08.jpg"/>
          <p:cNvPicPr/>
          <p:nvPr/>
        </p:nvPicPr>
        <p:blipFill>
          <a:blip r:embed="rId1"/>
          <a:stretch/>
        </p:blipFill>
        <p:spPr>
          <a:xfrm>
            <a:off x="490680" y="233280"/>
            <a:ext cx="3510000" cy="4962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photo11.jpg"/>
          <p:cNvPicPr/>
          <p:nvPr/>
        </p:nvPicPr>
        <p:blipFill>
          <a:blip r:embed="rId2"/>
          <a:stretch/>
        </p:blipFill>
        <p:spPr>
          <a:xfrm>
            <a:off x="5143680" y="2071800"/>
            <a:ext cx="3286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NoAlcoholics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2373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395280" y="404640"/>
            <a:ext cx="8353440" cy="6072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«Действие алкоголя сказывается своим губительным влиянием на качестве и количестве нашей работы, на нашем здоровье, в том числе и на здоровье нового поколения, на нашей семье и на всём нашем быту». (А.В.Луначарск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Latha"/>
              </a:rPr>
              <a:t>Алкоголиз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1213920"/>
            <a:ext cx="835344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арко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мость, характеризующаяся болезненным пристрастием к употреблению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когольных напит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сих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изическая зависимость) и алкогольным поражением внутренних органов. При алкоголизме происходит деградация человека как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исторически алкоголизмом называют состояние, которое приводит к постоянному употреблению алкогольных напитков, несмотря на проблемы со здоровьем и негативные социальные послед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пределение в медицине описывает алкоголизм как болезнь и наркотическую зависимость, которая приводит к систематическому потреблению алкоголя, несмотря на негативные послед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4360" y="476280"/>
            <a:ext cx="7559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Мотивы пьянства подрос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250920" y="1628640"/>
            <a:ext cx="3529080" cy="2159280"/>
          </a:xfrm>
          <a:prstGeom prst="flowChartDecision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843280" y="2637000"/>
            <a:ext cx="3529080" cy="2158920"/>
          </a:xfrm>
          <a:prstGeom prst="flowChartDecision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219640" y="3789360"/>
            <a:ext cx="3529080" cy="2158920"/>
          </a:xfrm>
          <a:prstGeom prst="flowChartDecision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818640" y="2325600"/>
            <a:ext cx="243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ние след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ди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570120" y="34257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ля храбр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73560" y="450864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ять с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979640" y="112536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4643280" y="1125360"/>
            <a:ext cx="216000" cy="1656000"/>
          </a:xfrm>
          <a:prstGeom prst="downArrow">
            <a:avLst>
              <a:gd name="adj1" fmla="val 50000"/>
              <a:gd name="adj2" fmla="val 191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020000" y="1125360"/>
            <a:ext cx="216000" cy="2735280"/>
          </a:xfrm>
          <a:prstGeom prst="downArrow">
            <a:avLst>
              <a:gd name="adj1" fmla="val 50000"/>
              <a:gd name="adj2" fmla="val 316583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4200" y="285840"/>
            <a:ext cx="8248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Calibri"/>
              </a:rPr>
              <a:t>Лицо подросткового алкого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alco05"/>
          <p:cNvPicPr/>
          <p:nvPr/>
        </p:nvPicPr>
        <p:blipFill>
          <a:blip r:embed="rId1"/>
          <a:stretch/>
        </p:blipFill>
        <p:spPr>
          <a:xfrm>
            <a:off x="477720" y="2251080"/>
            <a:ext cx="3768840" cy="360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alco14"/>
          <p:cNvPicPr/>
          <p:nvPr/>
        </p:nvPicPr>
        <p:blipFill>
          <a:blip r:embed="rId2"/>
          <a:stretch/>
        </p:blipFill>
        <p:spPr>
          <a:xfrm>
            <a:off x="4708440" y="2243160"/>
            <a:ext cx="39578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14200"/>
            <a:ext cx="7993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alibri"/>
              </a:rPr>
              <a:t>Влияние алкоголя на нервную систему  человека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785960"/>
          <a:ext cx="8424720" cy="4846680"/>
        </p:xfrm>
        <a:graphic>
          <a:graphicData uri="http://schemas.openxmlformats.org/drawingml/2006/table">
            <a:tbl>
              <a:tblPr/>
              <a:tblGrid>
                <a:gridCol w="2808360"/>
                <a:gridCol w="5616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оголя в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 - 0,0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ключается кора головного мозга, человек теряет контроль над соб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нетаются более глубокие отделы головного мозга, контролирующие движения(беспричинная радос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ияет на области мозга, контролирующие эмоциональное поведение человека(внезапная агрессивнос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дится хоть и в сознании, но непонимает того, что видит и слыши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дет к потери со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 - 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жет наступить смер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357120" y="85716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коголь- это порождение варварства- мёртвой хваткой держит человечество со времён седой старины и собирает с него чудовищную дань, пожирая молодость, подрывая силы, подавляя энергию, губя лучший цвет рода люд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.Лонд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329"/>
          <p:cNvPicPr/>
          <p:nvPr/>
        </p:nvPicPr>
        <p:blipFill>
          <a:blip r:embed="rId1"/>
          <a:srcRect l="0" t="0" r="269" b="8332"/>
          <a:stretch/>
        </p:blipFill>
        <p:spPr>
          <a:xfrm>
            <a:off x="1643040" y="2357280"/>
            <a:ext cx="528624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785880" y="6429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ино губит телесное здоровье людей, губит умственные способности, губит благосостояние семей и, что всего ужаснее, губит души людей и их потом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ё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alcoholic__no__580_no"/>
          <p:cNvPicPr/>
          <p:nvPr/>
        </p:nvPicPr>
        <p:blipFill>
          <a:blip r:embed="rId1"/>
          <a:stretch/>
        </p:blipFill>
        <p:spPr>
          <a:xfrm>
            <a:off x="1500120" y="1785960"/>
            <a:ext cx="6178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71680" y="714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Чем моложе пьющее лицо, тем скорее оно становится алкоголик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русский психиатр А.М. Коро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30d2ba3982b4958b753b00d798c9a692"/>
          <p:cNvPicPr/>
          <p:nvPr/>
        </p:nvPicPr>
        <p:blipFill>
          <a:blip r:embed="rId1"/>
          <a:stretch/>
        </p:blipFill>
        <p:spPr>
          <a:xfrm>
            <a:off x="1143000" y="1571760"/>
            <a:ext cx="68216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42:11Z</dcterms:created>
  <dc:creator>Admin</dc:creator>
  <dc:description/>
  <dc:language>en-US</dc:language>
  <cp:lastModifiedBy>биология</cp:lastModifiedBy>
  <dcterms:modified xsi:type="dcterms:W3CDTF">2010-11-27T05:31:15Z</dcterms:modified>
  <cp:revision>10</cp:revision>
  <dc:subject/>
  <dc:title>Урок ОБЖ в 10 классе Тема: «Вредные привычки. Употребление алкоголя и его влияние на здоровье человека».</dc:title>
</cp:coreProperties>
</file>